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6A2-50F2-4EDA-AC5A-B74D2B21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0F6-E149-4860-8322-1BA7F83D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045-6106-47EF-8CAB-3D1CF9E6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D86-9345-47EF-B0D7-16FEE666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105-1777-4D6F-957C-98AC3E58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82C-AA52-4451-8960-F18CA753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6E1-6FA8-4794-B096-5CDD5CD4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425-D318-45C0-BB59-84348E9B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97A-8C46-47BC-A511-38B177EB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9B9-66D5-480A-B952-007B937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E1D-C2BD-4451-9E3A-60DFC205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D8B-61A9-4E03-B17A-143C2B05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1C5C-D8BE-4AC7-AC12-8A00A22D0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685800"/>
            <a:ext cx="4648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ycle you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3581280"/>
            <a:ext cx="8001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UNCH TICKETS HERE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666880" y="45720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ycl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2362320"/>
            <a:ext cx="2438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un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66880" y="441972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cke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1817640" cy="1798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1817640" cy="1798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1817640" cy="1798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858000" y="4114800"/>
            <a:ext cx="1817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8:21:38Z</dcterms:created>
  <dc:creator>mes5c</dc:creator>
  <dc:description/>
  <dc:language>en-US</dc:language>
  <cp:lastModifiedBy>mes5c</cp:lastModifiedBy>
  <dcterms:modified xsi:type="dcterms:W3CDTF">2011-02-03T13:14:53Z</dcterms:modified>
  <cp:revision>3</cp:revision>
  <dc:subject/>
  <dc:title>Slide 1</dc:title>
</cp:coreProperties>
</file>